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A697-AE76-48B8-B225-F2F637D4E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9000" y="434628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E0D4-C155-4BE5-83E1-92C637350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92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DC6B-5C7F-4E34-9860-6CE0566D7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900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808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680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527A-EAED-47A3-A5C9-3060104F5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E363-AA78-432F-98A2-30CD2B982D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E4140-50C9-44D8-9B40-1304BDFB98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88D6-572B-4DBA-90A4-8E361F4FB2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3A7D-B9B5-4672-B2B0-B1DA4F21BC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30521-A2AF-4844-9EFF-5BC0005EF1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49000" y="-360"/>
            <a:ext cx="804204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3367-EB6E-4021-944F-917775AAB8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5BDB5-CF15-46EE-BDC2-1F4E7CCE97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E9F0-5EEE-47D0-8360-D5F054518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92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1249-02BB-4C66-BEC6-27431CAD1C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9C44-F2BD-4AF9-ABE1-2F134EDC91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9000" y="434628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97B4-8E01-4C57-9B60-CA07777FFE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92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2D3E2-06CF-4274-875B-6AEF6C570D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900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808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86800" y="4346280"/>
            <a:ext cx="258912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BE44C-0D07-4483-92C5-72EEFA64A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772C2-53BD-4EDB-A29E-191FF295F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D1F8-9B6E-464C-8182-2AD2F05FA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A0633-5E08-4682-A616-01D7C0410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49000" y="-360"/>
            <a:ext cx="804204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2C64-DC5A-45FC-8661-B4AF43570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D6F8-C44D-4060-B501-92CDA7E3C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920" y="434628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8606-8F9A-4EA9-9CAF-DBA54BF4A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49000" y="4346280"/>
            <a:ext cx="804204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6E8F3-3D10-4B45-8A6E-847249B81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88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67464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2" marL="95724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3" marL="125244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4" marL="153504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5" marL="153504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6" marL="153504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07200" y="6133680"/>
            <a:ext cx="571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8EC4-FDB8-4747-8AD9-BDC36DA88FDD}" type="slidenum"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88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67464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2" marL="95724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3" marL="125244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4" marL="153504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5" marL="153504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6" marL="153504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8107200" y="6133680"/>
            <a:ext cx="5716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18F6-B893-4580-BB3C-33A0039DEEC7}" type="slidenum"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lleverywhere.com/free_text_polls/MjcxNjIwODU1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lleverywhere.com/" TargetMode="External"/><Relationship Id="rId3" Type="http://schemas.openxmlformats.org/officeDocument/2006/relationships/hyperlink" Target="http://www.prezi.com/" TargetMode="External"/><Relationship Id="rId4" Type="http://schemas.openxmlformats.org/officeDocument/2006/relationships/hyperlink" Target="http://www.follettsoftware.com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lleverywhere.com/multiple_choice_polls/LTUzMTIzOTgyMw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3600" y="2070000"/>
            <a:ext cx="8416800" cy="3184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Lucida Grande"/>
              </a:rPr>
              <a:t>Meeting 21</a:t>
            </a:r>
            <a:r>
              <a:rPr b="0" lang="en-US" sz="3800" spc="-1" strike="noStrike" baseline="30000">
                <a:solidFill>
                  <a:srgbClr val="2c7c9f"/>
                </a:solidFill>
                <a:latin typeface="Lucida Grande"/>
              </a:rPr>
              <a:t>st</a:t>
            </a:r>
            <a:r>
              <a:rPr b="0" lang="en-US" sz="3800" spc="-1" strike="noStrike">
                <a:solidFill>
                  <a:srgbClr val="2c7c9f"/>
                </a:solidFill>
                <a:latin typeface="Lucida Grande"/>
              </a:rPr>
              <a:t> Century Goals By Reimagining School Library Programs</a:t>
            </a:r>
            <a:endParaRPr b="0" lang="en-US" sz="38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3600" y="5275440"/>
            <a:ext cx="8416800" cy="1658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Lucida Grande"/>
              </a:rPr>
              <a:t>Mark Ray</a:t>
            </a:r>
            <a:endParaRPr b="0" lang="en-US" sz="1800" spc="-1" strike="noStrike">
              <a:solidFill>
                <a:srgbClr val="595959"/>
              </a:solidFill>
              <a:latin typeface="Lucida Grande"/>
            </a:endParaRPr>
          </a:p>
          <a:p>
            <a:pPr marL="396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Lucida Grande"/>
              </a:rPr>
              <a:t>Vancouver Public Schools</a:t>
            </a:r>
            <a:endParaRPr b="0" lang="en-US" sz="1800" spc="-1" strike="noStrike">
              <a:solidFill>
                <a:srgbClr val="595959"/>
              </a:solidFill>
              <a:latin typeface="Lucida Grande"/>
            </a:endParaRPr>
          </a:p>
          <a:p>
            <a:pPr marL="396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Lucida Grande"/>
              </a:rPr>
              <a:t>Vancouver, Washington</a:t>
            </a:r>
            <a:endParaRPr b="0" lang="en-US" sz="1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66680" y="571680"/>
            <a:ext cx="7010640" cy="28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Lucida Grande"/>
              </a:rPr>
              <a:t>What keeps us up at night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Evolving core and extended state standard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Dynamic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century learning goal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Sneaking suspicion that we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are not getting the job done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346040" cy="201780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50800" y="276120"/>
            <a:ext cx="805176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b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  <a:ea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  <a:ea typeface="Lucida Grande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Lucida Grande"/>
                <a:ea typeface="Lucida Grande"/>
              </a:rPr>
              <a:t>Stuck between AYP and 21C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  <a:ea typeface="Lucida Grande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9440" y="1827360"/>
            <a:ext cx="6401880" cy="4115880"/>
            <a:chOff x="379440" y="1827360"/>
            <a:chExt cx="6401880" cy="4115880"/>
          </a:xfrm>
        </p:grpSpPr>
        <p:sp>
          <p:nvSpPr>
            <p:cNvPr id="108" name=""/>
            <p:cNvSpPr/>
            <p:nvPr/>
          </p:nvSpPr>
          <p:spPr>
            <a:xfrm>
              <a:off x="379440" y="1827360"/>
              <a:ext cx="6401880" cy="4115880"/>
            </a:xfrm>
            <a:prstGeom prst="pie">
              <a:avLst/>
            </a:prstGeom>
            <a:gradFill rotWithShape="0">
              <a:gsLst>
                <a:gs pos="0">
                  <a:srgbClr val="f67309"/>
                </a:gs>
                <a:gs pos="100000">
                  <a:srgbClr val="fec3af"/>
                </a:gs>
              </a:gsLst>
              <a:lin ang="5400000"/>
            </a:gradFill>
            <a:ln w="12600">
              <a:solidFill>
                <a:srgbClr val="e272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16160" y="2362320"/>
              <a:ext cx="4526640" cy="258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120" tIns="38160" bIns="38160" anchor="ctr">
              <a:noAutofit/>
            </a:bodyPr>
            <a:p>
              <a:pPr marL="11736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“</a:t>
              </a:r>
              <a:r>
                <a:rPr b="0" lang="en-US" sz="28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The technology that enables connected teaching is available now, but not all the conditions necessary to leverage it are.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970360" y="1751040"/>
            <a:ext cx="5944680" cy="4716000"/>
            <a:chOff x="2970360" y="1751040"/>
            <a:chExt cx="5944680" cy="4716000"/>
          </a:xfrm>
        </p:grpSpPr>
        <p:sp>
          <p:nvSpPr>
            <p:cNvPr id="111" name=""/>
            <p:cNvSpPr/>
            <p:nvPr/>
          </p:nvSpPr>
          <p:spPr>
            <a:xfrm>
              <a:off x="2970360" y="1751040"/>
              <a:ext cx="5944680" cy="4716000"/>
            </a:xfrm>
            <a:prstGeom prst="pie">
              <a:avLst/>
            </a:prstGeom>
            <a:gradFill rotWithShape="0">
              <a:gsLst>
                <a:gs pos="0">
                  <a:srgbClr val="84c800"/>
                </a:gs>
                <a:gs pos="100000">
                  <a:srgbClr val="cce7b3"/>
                </a:gs>
              </a:gsLst>
              <a:lin ang="5400000"/>
            </a:gradFill>
            <a:ln w="12600">
              <a:solidFill>
                <a:srgbClr val="7db6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40480" y="2386080"/>
              <a:ext cx="4204080" cy="29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120" tIns="38160" bIns="38160" anchor="ctr">
              <a:noAutofit/>
            </a:bodyPr>
            <a:p>
              <a:pPr marL="3240" indent="-1800">
                <a:lnSpc>
                  <a:spcPct val="100000"/>
                </a:lnSpc>
                <a:tabLst>
                  <a:tab algn="l" pos="0"/>
                  <a:tab algn="l" pos="21600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Lucida Grande"/>
                  <a:ea typeface="Lucida Grande"/>
                </a:rPr>
                <a:t>[Students’] vision is much broader than the individual technology components often described in local education technology plans and more focused on transformational changes in the learning proces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08040" y="2131920"/>
            <a:ext cx="7087680" cy="4544640"/>
            <a:chOff x="608040" y="2131920"/>
            <a:chExt cx="7087680" cy="4544640"/>
          </a:xfrm>
        </p:grpSpPr>
        <p:sp>
          <p:nvSpPr>
            <p:cNvPr id="114" name=""/>
            <p:cNvSpPr/>
            <p:nvPr/>
          </p:nvSpPr>
          <p:spPr>
            <a:xfrm>
              <a:off x="608040" y="2131920"/>
              <a:ext cx="7087680" cy="4544640"/>
            </a:xfrm>
            <a:prstGeom prst="pie">
              <a:avLst/>
            </a:prstGeom>
            <a:solidFill>
              <a:srgbClr val="2c7c9f"/>
            </a:solidFill>
            <a:ln w="25560">
              <a:solidFill>
                <a:srgbClr val="1d59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46280" y="2855880"/>
              <a:ext cx="5017320" cy="259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120" tIns="38160" bIns="38160" anchor="ctr">
              <a:noAutofit/>
            </a:bodyPr>
            <a:p>
              <a:pPr marL="460440" indent="-18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Lucida Grande"/>
                  <a:ea typeface="Lucida Grande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Lucida Grande"/>
                  <a:ea typeface="Lucida Grande"/>
                </a:rPr>
                <a:t>Can classroom teachers alone, stressed by assessment testing and ever-growing paperwork burdens, help students figure this all out?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Guiding question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9360" y="1905120"/>
            <a:ext cx="455616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How do we make 21</a:t>
            </a:r>
            <a:r>
              <a:rPr b="0" lang="en-US" sz="32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 century learning happen with decreased funding, staffing and ability/willingness of educators to do more with less?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2535120" cy="381168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Guiding question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81600" y="1905120"/>
            <a:ext cx="478152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How do we begin to respond to the needs of millennial learners for interactive, collaborative and dynamic learning environments?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2209680"/>
            <a:ext cx="3048120" cy="3048120"/>
          </a:xfrm>
          <a:prstGeom prst="rect">
            <a:avLst/>
          </a:prstGeom>
          <a:ln w="0">
            <a:noFill/>
          </a:ln>
          <a:effectLst>
            <a:outerShdw dist="126806" dir="7559489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Rethink school libraries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Looking past the ‘L’ word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Library, information and technology skills (LIT) are explicit in three guiding educational documents: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Lucida Grande"/>
              </a:rPr>
              <a:t>International Society for Technology in Education (ISTE) Educational Technology Standards</a:t>
            </a: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. Three standards are contained in a LIT program.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Lucida Grande"/>
              </a:rPr>
              <a:t>Partnership for 21</a:t>
            </a:r>
            <a:r>
              <a:rPr b="1" lang="en-US" sz="2200" spc="-1" strike="noStrike" baseline="29000">
                <a:solidFill>
                  <a:srgbClr val="595959"/>
                </a:solidFill>
                <a:latin typeface="Lucida Grande"/>
              </a:rPr>
              <a:t>st</a:t>
            </a:r>
            <a:r>
              <a:rPr b="1" lang="en-US" sz="2200" spc="-1" strike="noStrike">
                <a:solidFill>
                  <a:srgbClr val="595959"/>
                </a:solidFill>
                <a:latin typeface="Lucida Grande"/>
              </a:rPr>
              <a:t> Century Learning Skills</a:t>
            </a: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. One of the three skill domains focuses on “Information, Media and Technology Skills.”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95959"/>
                </a:solidFill>
                <a:latin typeface="Lucida Grande"/>
              </a:rPr>
              <a:t>Washington Office of the Superintendent of Public Instruction (OSPI) Educational Technology Learning Standards. </a:t>
            </a: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Four of seven components align with LIT programs.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Rethink school libraries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y not libraries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Program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expressly designed to support curriculum and instruction in the school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Professional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tasked with collaboration and integration with students and teacher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Place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designed to offer access to materials to support literacy, research and educational technology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at’s the catch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49000" y="1828800"/>
            <a:ext cx="804204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Establish 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strategic partnerships between teacher librarians and district services and administration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Expand 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vision of the role of the teacher librarian and the school library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Streamline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resource and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library operation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Bridge 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the analog gap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3124080" cy="208116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Story time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1374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Four chapters (to date)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In rough chronological order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Success-in-progress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Please ask questions for clarification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uild strategic partnerships 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47084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Connect library, information and technology programs with one or more key department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7254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IT, curriculum and instruction and/or literacy.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Programs operating independently of one another; lack of trust and communication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2666880" cy="3683160"/>
          </a:xfrm>
          <a:prstGeom prst="rect">
            <a:avLst/>
          </a:prstGeom>
          <a:ln w="0">
            <a:noFill/>
          </a:ln>
          <a:effectLst>
            <a:outerShdw dist="127098" dir="8217072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uild strategic partnership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Chapter title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The Librarian Who Came In From the Cold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administrator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: Linda Turner, CIO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idea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Bringing stakeholders together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focus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Build capacity and trust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word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Collaboratio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Expectation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49360" y="1599840"/>
            <a:ext cx="81374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This is about success-in-progress, not software.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I don’t suffer poor presentations gladly.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I will use good instructional practices.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Lucida Grande"/>
              </a:rPr>
              <a:t>Don’t expect me to say what you might think I’m going to say</a:t>
            </a:r>
            <a:endParaRPr b="0" lang="en-US" sz="32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uild strategic partnerships 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760" y="1905120"/>
            <a:ext cx="44002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K-12 Destiny/Cognite implementation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Bring teacher librarians to the table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7254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Identify leaders to work with key district personnel and co-lead initiatives.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96960" y="2057400"/>
            <a:ext cx="3370320" cy="2895480"/>
          </a:xfrm>
          <a:prstGeom prst="rect">
            <a:avLst/>
          </a:prstGeom>
          <a:ln w="0">
            <a:noFill/>
          </a:ln>
          <a:effectLst>
            <a:outerShdw dist="126806" dir="7559489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Expand vision of library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Enrich and empower teacher librarians to be stronger educational leaders for students and teacher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solated successes; lack of 2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century focu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Expand vision of library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Chapter title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Who Ya Gonna Call?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administrator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Lisa Greseth, Director of Instructional Technology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idea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Different thinking to meet different needs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focus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Expanding the teacher librarian role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word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LIT (technically, that’s an acronym)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273720" y="3174840"/>
            <a:ext cx="2286000" cy="343692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Expand vision of library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Teacher librarian as technology facilitator; teacher librarian technology training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to go next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ontinue engagement of teacher librarians through visioning, planning, training and/or implementation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9360" y="1905120"/>
            <a:ext cx="455616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Modernize operations to improve services, save money and allow teacher librarians to teach and lead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34 different servers, no sense of textbook inventory, lack of policy and procedure, 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2687760" cy="358128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Chapter title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Putting The ‘Teacher’ Back in Teacher Libraria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administrator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Layne Curtis, Director of Curriculum and Instructio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idea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Owning innovation and professional development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focus: 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Creating educational leaders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word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teacher libraria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Make libraries work better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419720" y="1905120"/>
            <a:ext cx="417168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Unified K-12 resource management; task force developing standard operating procedures; librarians talking about teaching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Review materials management policies and workflow; enhance teacher role of librarians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352680" cy="2235240"/>
          </a:xfrm>
          <a:prstGeom prst="rect">
            <a:avLst/>
          </a:prstGeom>
          <a:ln w="0">
            <a:noFill/>
          </a:ln>
          <a:effectLst>
            <a:outerShdw dist="127098" dir="8217072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ridge the analog gap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Goal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Leverage millions of dollars invested in ‘analog’ resources like books, text materials and teacher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started: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omputers and a network but no sense of purpose.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ridge the analog gap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Chapter title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To Boldly Go Where No Library Has Gone Before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administrator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Steve Bratt, Director of Network Services, et. al.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idea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Converge resources to support 21</a:t>
            </a:r>
            <a:r>
              <a:rPr b="0" lang="en-US" sz="26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century learners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focus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Change the way that patrons work with ideas and informatio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Lucida Grande"/>
              </a:rPr>
              <a:t>Key words:</a:t>
            </a: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 web-enhanced classroom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See systemically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Bridge the analog gap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we are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Flexible Learning Environments and Cognite Technology Pilot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Where to go next: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Assess how to better use educational resources and educators to meet 2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 century goals.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Learning target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51656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Understand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Vancouver Public Schools and the educational landscape vis à vis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century learning, teacher librarians and strategic planning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Rethink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how library information and technology programs and teacher librarians can support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century learning initiative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2768760" cy="358164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Leave with solutions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ere do I go next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Build strategic partnerships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between teacher librarians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and district services and </a:t>
            </a:r>
            <a:br>
              <a:rPr sz="2800"/>
            </a:b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administration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Expand vision of the role of teacher librarians and the school library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Leave with solutions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ere do I go next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804204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Modernize resource and library operation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Bridge the analog gap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438280" y="3240000"/>
            <a:ext cx="4724640" cy="300852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213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Lucida Grande"/>
              </a:rPr>
              <a:t>What one word would you use to describe school libraries or teacher librarians?</a:t>
            </a:r>
            <a:r>
              <a:rPr b="0" lang="en-US" sz="4200" spc="-1" strike="noStrike">
                <a:solidFill>
                  <a:srgbClr val="2c7c9f"/>
                </a:solidFill>
                <a:latin typeface="Lucida Grande"/>
              </a:rPr>
              <a:t> </a:t>
            </a:r>
            <a:endParaRPr b="0" lang="en-US" sz="42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49000" y="2743200"/>
            <a:ext cx="804204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ext to the following number: 22333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First enter the number: 92691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hen enter a word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hen send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Leaving with solutions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Key resource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3"/>
              </a:rPr>
              <a:t>Prezi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4"/>
              </a:rPr>
              <a:t>Follettsoftware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Google “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Lucida Grande"/>
              </a:rPr>
              <a:t>librarian-provocateur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”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808200" indent="-4194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Not to be confused with “Agent Provocateur”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808200" indent="-4194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Article links, etc. are listed under “NSBA”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496800" indent="-457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mark.ray@vansd.org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Learning targets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724280" y="1599840"/>
            <a:ext cx="38671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See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how systemic thinking and investments can support these initiative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Leave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with four steps to leverage libraries and teacher librarians to meet 21</a:t>
            </a:r>
            <a:r>
              <a:rPr b="0" lang="en-US" sz="2800" spc="-1" strike="noStrike" baseline="30000">
                <a:solidFill>
                  <a:srgbClr val="595959"/>
                </a:solidFill>
                <a:latin typeface="Lucida Grande"/>
              </a:rPr>
              <a:t>st</a:t>
            </a: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 century need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2590560" cy="3884400"/>
          </a:xfrm>
          <a:prstGeom prst="rect">
            <a:avLst/>
          </a:prstGeom>
          <a:ln w="0">
            <a:noFill/>
          </a:ln>
          <a:effectLst>
            <a:outerShdw dist="126988" dir="7803308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Formative assessment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50893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Get out your cell phone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In my presentation, you can leave them on “vibrate.”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Prepare to text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You may have to switch from T9 to 123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692440" cy="403884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c7c9f"/>
                </a:solidFill>
                <a:latin typeface="Lucida Grande"/>
              </a:rPr>
              <a:t>What is your current perception of school libraries?</a:t>
            </a:r>
            <a:r>
              <a:rPr b="0" lang="en-US" sz="4200" spc="-1" strike="noStrike">
                <a:solidFill>
                  <a:srgbClr val="2c7c9f"/>
                </a:solidFill>
                <a:latin typeface="Lucida Grande"/>
              </a:rPr>
              <a:t> </a:t>
            </a:r>
            <a:endParaRPr b="0" lang="en-US" sz="42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Lucida Grande"/>
                <a:hlinkClick r:id="rId2"/>
              </a:rPr>
              <a:t>Polleverywhere.com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ext to the following number: 22333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Essential.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 can't imagine a school without them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127164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Ephemeral.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'm not sure how they fit into a 21st century school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127165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Erstwhile.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 don't think they realize it's almost 2011. Text the number </a:t>
            </a: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127166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799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Expendable. </a:t>
            </a: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 can't afford them. </a:t>
            </a:r>
            <a:r>
              <a:rPr b="1" lang="en-US" sz="2400" spc="-1" strike="noStrike">
                <a:solidFill>
                  <a:srgbClr val="595959"/>
                </a:solidFill>
                <a:latin typeface="Lucida Grande"/>
              </a:rPr>
              <a:t>127167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-360"/>
            <a:ext cx="8042040" cy="1444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o am I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950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eacher librarian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Skyview HS et. al.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Technology facilitator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Vancouver Public Schools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Rabble rouser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Blog: Librarian Provocateur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Project LIT founding member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Lucida Grande"/>
              </a:rPr>
              <a:t>Plays well with administrators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Lucida Grande"/>
              </a:rPr>
              <a:t>Collaborations with HR, curriculum, IT, planning, facility design and higher education</a:t>
            </a:r>
            <a:endParaRPr b="0" lang="en-US" sz="2600" spc="-1" strike="noStrike">
              <a:solidFill>
                <a:srgbClr val="595959"/>
              </a:solidFill>
              <a:latin typeface="Lucida Gran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br>
              <a:rPr sz="3200"/>
            </a:b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Who is VPS?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11520" y="1752480"/>
            <a:ext cx="455616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We are not Vancouver, CA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21,000 students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33 schools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lvl="1" marL="7254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Lucida Grande"/>
              </a:rPr>
              <a:t>21/6/4/2</a:t>
            </a:r>
            <a:endParaRPr b="0" lang="en-US" sz="22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Increasing diversity and poverty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Lucida Grande"/>
              </a:rPr>
              <a:t>Concurrent years of significant budget shortfalls</a:t>
            </a:r>
            <a:endParaRPr b="0" lang="en-US" sz="24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0960" y="2057400"/>
            <a:ext cx="3592440" cy="2514600"/>
          </a:xfrm>
          <a:prstGeom prst="rect">
            <a:avLst/>
          </a:prstGeom>
          <a:ln w="0">
            <a:noFill/>
          </a:ln>
          <a:effectLst>
            <a:outerShdw dist="127137" dir="7137603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0"/>
            <a:ext cx="8042040" cy="1749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7c9f"/>
                </a:solidFill>
                <a:latin typeface="Lucida Grande"/>
              </a:rPr>
              <a:t>Understanding the situation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br>
              <a:rPr sz="4600"/>
            </a:br>
            <a:r>
              <a:rPr b="0" lang="en-US" sz="4200" spc="-1" strike="noStrike">
                <a:solidFill>
                  <a:srgbClr val="2c7c9f"/>
                </a:solidFill>
                <a:latin typeface="Lucida Grande"/>
              </a:rPr>
              <a:t>What keeps us up at night</a:t>
            </a:r>
            <a:r>
              <a:rPr b="0" lang="en-US" sz="4600" spc="-1" strike="noStrike">
                <a:solidFill>
                  <a:srgbClr val="2c7c9f"/>
                </a:solidFill>
                <a:latin typeface="Lucida Grande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Lucida Gran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49000" y="1905120"/>
            <a:ext cx="4784760" cy="4952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Bearish budgetary outlook at all level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Continued pressure from national/state benchmarks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  <a:p>
            <a:pPr marL="3888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Lucida Grande"/>
              </a:rPr>
              <a:t>Growing private and public online and alternative competition.</a:t>
            </a:r>
            <a:endParaRPr b="0" lang="en-US" sz="2800" spc="-1" strike="noStrike">
              <a:solidFill>
                <a:srgbClr val="595959"/>
              </a:solidFill>
              <a:latin typeface="Lucida Gran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2462040" cy="3657600"/>
          </a:xfrm>
          <a:prstGeom prst="rect">
            <a:avLst/>
          </a:prstGeom>
          <a:ln w="0">
            <a:noFill/>
          </a:ln>
          <a:effectLst>
            <a:outerShdw dist="126770" dir="2700000" blurRad="0" rotWithShape="0">
              <a:srgbClr val="808080">
                <a:alpha val="43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rial User</dc:creator>
  <dc:description/>
  <dc:language>en-US</dc:language>
  <cp:lastModifiedBy/>
  <cp:revision>0</cp:revision>
  <dc:subject/>
  <dc:title>Leveraging School Libraries</dc:title>
</cp:coreProperties>
</file>